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AE6-780A-4D06-A5B9-AEB4219A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FE1-3042-4B19-B7D6-064B3E09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9BF-9291-475E-85C3-90A5879E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C16-FC42-469A-9FD2-252B44B3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F9F-0C54-4896-86A1-1F5A7BA4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77E-B295-46DE-8469-C5EBE783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F90-31FA-43F0-8082-41BF2EA1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B3F-769B-49EB-9744-49B1FBA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200-95F3-4F1F-B3DE-B2055FB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A62-2B88-4BB2-9F37-2B17AE17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58E-D62C-487A-B5B7-BF5EA719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A20-1C9A-4096-BD39-00DD512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8884-395F-44F0-B404-EDEDDFE73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olpc" TargetMode="External"/><Relationship Id="rId2" Type="http://schemas.openxmlformats.org/officeDocument/2006/relationships/hyperlink" Target="http://www.youtube.com/olpc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Goals &amp; Outcom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earn about &amp; become involved in OLPC efforts locally &amp; abr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elf-guided research &amp; interests will determine content area fo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ommunicate with International network for expert advice and exchange of ideas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Collaborate with peers on project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ollaborate with International community &amp; several recognized &amp; established groups/org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Develop prototypes for applications in the Sugar environment for future full development roll-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Assessm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based on attendance &amp; in/out of class particip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completion &amp; quality of assig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on effective collaboration with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32767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creative problem solving sk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on quality of prototypes p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PowerPoint Created by Eric M. G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ro OLPC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3810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Thank You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Mission 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Mission 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3581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90720" y="3581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657600" y="3581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I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Stephen Jaco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Eric M. Gr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9999"/>
                </a:solidFill>
                <a:latin typeface="Arial"/>
              </a:rPr>
              <a:t>Lab for Technological Litera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3200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cc00"/>
                </a:solidFill>
                <a:latin typeface="Arial"/>
              </a:rPr>
              <a:t>Student Introduct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Maj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Year @ R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Interest in OLP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What do you want to gain from semina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08080"/>
                </a:solidFill>
                <a:latin typeface="Arial"/>
              </a:rPr>
              <a:t>Please tell us you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wiki.laptop.org/go/OLPC_Rochester%2C_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1320" y="19810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OLPC Wiki-Rochester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6960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08080"/>
                </a:solidFill>
                <a:latin typeface="Arial"/>
              </a:rPr>
              <a:t>Fedora Wik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6800" y="2057400"/>
            <a:ext cx="46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https://fedoraproject.org/wiki/Fedora_Project_Wi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Arial"/>
              </a:rPr>
              <a:t>Sugar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4760" y="20574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http://sugarlabs.org/go/Mat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48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delicious.com/maths4olpc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3600" y="19447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Delicious Bookmarks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297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Conten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&amp; 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4th Grade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am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LPC/Sugar/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edora &amp; IRC Collab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nux/Unix/Open Source/Creative Com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t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198108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629400" y="3886200"/>
            <a:ext cx="193356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2019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6:27:53Z</dcterms:created>
  <dc:creator>Sam Hoover</dc:creator>
  <dc:description/>
  <dc:language>en-US</dc:language>
  <cp:lastModifiedBy>Sam Hoover</cp:lastModifiedBy>
  <dcterms:modified xsi:type="dcterms:W3CDTF">2009-03-13T08:35:17Z</dcterms:modified>
  <cp:revision>28</cp:revision>
  <dc:subject/>
  <dc:title>PowerPoint Presentation</dc:title>
</cp:coreProperties>
</file>